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7556500" cy="10691813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3D4C-6CEC-447E-B276-1107B914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8068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45200"/>
            <a:ext cx="68068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940B-0A97-407B-9642-8C73CB90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452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DAE-B997-4AB4-8C96-1DC223CE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588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588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452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452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452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1942-1E23-4897-8FB5-FB95BE83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58800"/>
            <a:ext cx="680688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3B36-343A-4F8E-87F4-4E90D13A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80688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E2CE-B7EC-4BE4-93E3-E03C8887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40D-50BB-4951-80D7-0F22268D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8EA-B2ED-4471-95A9-E8C55E7E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6960"/>
            <a:ext cx="6806880" cy="79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3550-6645-4EA3-80CD-471318D7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F80-23C8-4046-AF5B-629E66DE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452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7B63-48A5-49DC-8AE4-7925FAF3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68068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847A-EB08-4FAF-90F4-72FF5AAA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58800"/>
            <a:ext cx="680688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71840" y="9944280"/>
            <a:ext cx="24192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77640" y="994428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44640" y="994428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7AD4-A878-48F1-B4CC-68F5A7AC5EAF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studio.com/products/rstudio/download/" TargetMode="External"/><Relationship Id="rId2" Type="http://schemas.openxmlformats.org/officeDocument/2006/relationships/hyperlink" Target="http://www.rstudio.com/products/rstudio/download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658800" y="1273320"/>
            <a:ext cx="365904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e1015"/>
                </a:solidFill>
                <a:latin typeface="Segoe UI"/>
                <a:ea typeface="Segoe UI"/>
              </a:rPr>
              <a:t>Introduction to R Program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Table</a:t>
            </a:r>
            <a:r>
              <a:rPr b="1" lang="de-DE" sz="16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of</a:t>
            </a:r>
            <a:r>
              <a:rPr b="1" lang="de-DE" sz="16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buClr>
                <a:srgbClr val="0e1015"/>
              </a:buClr>
              <a:buFont typeface="Segoe U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What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is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150"/>
              </a:spcBef>
              <a:buClr>
                <a:srgbClr val="0e1015"/>
              </a:buClr>
              <a:buFont typeface="Segoe U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Installing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R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and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RStud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150"/>
              </a:spcBef>
              <a:buClr>
                <a:srgbClr val="0e1015"/>
              </a:buClr>
              <a:buFont typeface="Segoe U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Basic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Syntax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and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150"/>
              </a:spcBef>
              <a:buClr>
                <a:srgbClr val="0e1015"/>
              </a:buClr>
              <a:buFont typeface="Segoe U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Data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Types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and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Stru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150"/>
              </a:spcBef>
              <a:buClr>
                <a:srgbClr val="0e1015"/>
              </a:buClr>
              <a:buFont typeface="Segoe U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Data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150"/>
              </a:spcBef>
              <a:buClr>
                <a:srgbClr val="0e1015"/>
              </a:buClr>
              <a:buFont typeface="Segoe U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Basic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150"/>
              </a:spcBef>
              <a:buClr>
                <a:srgbClr val="0e1015"/>
              </a:buClr>
              <a:buFont typeface="Segoe U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Data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Visu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150"/>
              </a:spcBef>
              <a:buClr>
                <a:srgbClr val="0e1015"/>
              </a:buClr>
              <a:buFont typeface="Segoe U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Control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Stru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150"/>
              </a:spcBef>
              <a:buClr>
                <a:srgbClr val="0e1015"/>
              </a:buClr>
              <a:buFont typeface="Segoe U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150"/>
              </a:spcBef>
              <a:buClr>
                <a:srgbClr val="0e1015"/>
              </a:buClr>
              <a:buFont typeface="Segoe U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Resources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for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Le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object 3"/>
          <p:cNvSpPr/>
          <p:nvPr/>
        </p:nvSpPr>
        <p:spPr>
          <a:xfrm>
            <a:off x="898560" y="4786200"/>
            <a:ext cx="5761080" cy="360"/>
          </a:xfrm>
          <a:custGeom>
            <a:avLst/>
            <a:gdLst/>
            <a:ahLst/>
            <a:rect l="l" t="t" r="r" b="b"/>
            <a:pathLst>
              <a:path w="5760720" h="0">
                <a:moveTo>
                  <a:pt x="0" y="0"/>
                </a:moveTo>
                <a:lnTo>
                  <a:pt x="5760719" y="0"/>
                </a:lnTo>
              </a:path>
            </a:pathLst>
          </a:custGeom>
          <a:noFill/>
          <a:ln w="10800">
            <a:solidFill>
              <a:srgbClr val="9f9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object 4"/>
          <p:cNvSpPr/>
          <p:nvPr/>
        </p:nvSpPr>
        <p:spPr>
          <a:xfrm>
            <a:off x="900000" y="4788000"/>
            <a:ext cx="5761080" cy="360"/>
          </a:xfrm>
          <a:custGeom>
            <a:avLst/>
            <a:gdLst/>
            <a:ahLst/>
            <a:rect l="l" t="t" r="r" b="b"/>
            <a:pathLst>
              <a:path w="5761990" h="0">
                <a:moveTo>
                  <a:pt x="0" y="0"/>
                </a:moveTo>
                <a:lnTo>
                  <a:pt x="5761932" y="0"/>
                </a:lnTo>
              </a:path>
            </a:pathLst>
          </a:custGeom>
          <a:noFill/>
          <a:ln w="10440">
            <a:solidFill>
              <a:srgbClr val="9f9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bject 5"/>
          <p:cNvSpPr/>
          <p:nvPr/>
        </p:nvSpPr>
        <p:spPr>
          <a:xfrm>
            <a:off x="900000" y="4788000"/>
            <a:ext cx="5761080" cy="360"/>
          </a:xfrm>
          <a:custGeom>
            <a:avLst/>
            <a:gdLst/>
            <a:ahLst/>
            <a:rect l="l" t="t" r="r" b="b"/>
            <a:pathLst>
              <a:path w="5761990" h="0">
                <a:moveTo>
                  <a:pt x="0" y="0"/>
                </a:moveTo>
                <a:lnTo>
                  <a:pt x="5761932" y="0"/>
                </a:lnTo>
              </a:path>
            </a:pathLst>
          </a:custGeom>
          <a:noFill/>
          <a:ln w="10440">
            <a:solidFill>
              <a:srgbClr val="e3e3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bject 6"/>
          <p:cNvSpPr/>
          <p:nvPr/>
        </p:nvSpPr>
        <p:spPr>
          <a:xfrm>
            <a:off x="658800" y="5197320"/>
            <a:ext cx="600876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1.</a:t>
            </a:r>
            <a:r>
              <a:rPr b="1" lang="de-DE" sz="16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What</a:t>
            </a:r>
            <a:r>
              <a:rPr b="1" lang="de-DE" sz="16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is</a:t>
            </a:r>
            <a:r>
              <a:rPr b="1" lang="de-DE" sz="16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R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11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R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is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a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programming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language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and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software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environment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for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statistical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computing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and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graphics.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It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is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widely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used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among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statisticians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and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data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scientists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fo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buClr>
                <a:srgbClr val="0e1015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Data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150"/>
              </a:spcBef>
              <a:buClr>
                <a:srgbClr val="0e1015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Statistical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150"/>
              </a:spcBef>
              <a:buClr>
                <a:srgbClr val="0e1015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Data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visu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150"/>
              </a:spcBef>
              <a:buClr>
                <a:srgbClr val="0e1015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Machine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le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150"/>
              </a:spcBef>
              <a:buClr>
                <a:srgbClr val="0e1015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Report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37"/>
              </a:spcBef>
              <a:buClr>
                <a:srgbClr val="0e1015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Key</a:t>
            </a:r>
            <a:r>
              <a:rPr b="1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Featur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buClr>
                <a:srgbClr val="0e1015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Open-source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and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f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150"/>
              </a:spcBef>
              <a:buClr>
                <a:srgbClr val="0e1015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Extensive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package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eco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150"/>
              </a:spcBef>
              <a:buClr>
                <a:srgbClr val="0e1015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Excellent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visualization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capabi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150"/>
              </a:spcBef>
              <a:buClr>
                <a:srgbClr val="0e1015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Strong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community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150"/>
              </a:spcBef>
              <a:buClr>
                <a:srgbClr val="0e1015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Cross-platform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compati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2.</a:t>
            </a:r>
            <a:r>
              <a:rPr b="1" lang="de-DE" sz="16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Installing</a:t>
            </a:r>
            <a:r>
              <a:rPr b="1" lang="de-DE" sz="16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R</a:t>
            </a:r>
            <a:r>
              <a:rPr b="1" lang="de-DE" sz="16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and</a:t>
            </a:r>
            <a:r>
              <a:rPr b="1" lang="de-DE" sz="16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RStud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1336680" y="1565280"/>
            <a:ext cx="1724040" cy="360"/>
          </a:xfrm>
          <a:custGeom>
            <a:avLst/>
            <a:gdLst/>
            <a:ahLst/>
            <a:rect l="l" t="t" r="r" b="b"/>
            <a:pathLst>
              <a:path w="1724025" h="0">
                <a:moveTo>
                  <a:pt x="0" y="0"/>
                </a:moveTo>
                <a:lnTo>
                  <a:pt x="1723906" y="0"/>
                </a:lnTo>
              </a:path>
            </a:pathLst>
          </a:custGeom>
          <a:noFill/>
          <a:ln w="10440">
            <a:solidFill>
              <a:srgbClr val="3963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bject 3"/>
          <p:cNvSpPr/>
          <p:nvPr/>
        </p:nvSpPr>
        <p:spPr>
          <a:xfrm>
            <a:off x="1319040" y="1374840"/>
            <a:ext cx="1760760" cy="360"/>
          </a:xfrm>
          <a:custGeom>
            <a:avLst/>
            <a:gdLst/>
            <a:ahLst/>
            <a:rect l="l" t="t" r="r" b="b"/>
            <a:pathLst>
              <a:path w="1760855" h="0">
                <a:moveTo>
                  <a:pt x="0" y="0"/>
                </a:moveTo>
                <a:lnTo>
                  <a:pt x="1760610" y="0"/>
                </a:lnTo>
              </a:path>
            </a:pathLst>
          </a:custGeom>
          <a:noFill/>
          <a:ln w="19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object 4"/>
          <p:cNvSpPr/>
          <p:nvPr/>
        </p:nvSpPr>
        <p:spPr>
          <a:xfrm>
            <a:off x="1327320" y="1384200"/>
            <a:ext cx="360" cy="203400"/>
          </a:xfrm>
          <a:custGeom>
            <a:avLst/>
            <a:gdLst/>
            <a:ahLst/>
            <a:rect l="l" t="t" r="r" b="b"/>
            <a:pathLst>
              <a:path w="0" h="203200">
                <a:moveTo>
                  <a:pt x="0" y="0"/>
                </a:moveTo>
                <a:lnTo>
                  <a:pt x="0" y="202691"/>
                </a:lnTo>
              </a:path>
            </a:pathLst>
          </a:custGeom>
          <a:noFill/>
          <a:ln w="19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bject 5"/>
          <p:cNvSpPr/>
          <p:nvPr/>
        </p:nvSpPr>
        <p:spPr>
          <a:xfrm>
            <a:off x="3070080" y="1384200"/>
            <a:ext cx="360" cy="203400"/>
          </a:xfrm>
          <a:custGeom>
            <a:avLst/>
            <a:gdLst/>
            <a:ahLst/>
            <a:rect l="l" t="t" r="r" b="b"/>
            <a:pathLst>
              <a:path w="0" h="203200">
                <a:moveTo>
                  <a:pt x="0" y="0"/>
                </a:moveTo>
                <a:lnTo>
                  <a:pt x="0" y="202691"/>
                </a:lnTo>
              </a:path>
            </a:pathLst>
          </a:custGeom>
          <a:noFill/>
          <a:ln w="19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bject 6"/>
          <p:cNvSpPr/>
          <p:nvPr/>
        </p:nvSpPr>
        <p:spPr>
          <a:xfrm>
            <a:off x="1319040" y="1595520"/>
            <a:ext cx="1760760" cy="360"/>
          </a:xfrm>
          <a:custGeom>
            <a:avLst/>
            <a:gdLst/>
            <a:ahLst/>
            <a:rect l="l" t="t" r="r" b="b"/>
            <a:pathLst>
              <a:path w="1760855" h="0">
                <a:moveTo>
                  <a:pt x="0" y="0"/>
                </a:moveTo>
                <a:lnTo>
                  <a:pt x="1760610" y="0"/>
                </a:lnTo>
              </a:path>
            </a:pathLst>
          </a:custGeom>
          <a:noFill/>
          <a:ln w="19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bject 7"/>
          <p:cNvSpPr/>
          <p:nvPr/>
        </p:nvSpPr>
        <p:spPr>
          <a:xfrm>
            <a:off x="658800" y="971640"/>
            <a:ext cx="343044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Installing</a:t>
            </a:r>
            <a:r>
              <a:rPr b="1" lang="de-DE" sz="15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buClr>
                <a:srgbClr val="0e1015"/>
              </a:buClr>
              <a:buFont typeface="Segoe U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Go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to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 </a:t>
            </a:r>
            <a:r>
              <a:rPr b="0" lang="de-DE" sz="1200" spc="-1" strike="noStrike">
                <a:solidFill>
                  <a:srgbClr val="3963fe"/>
                </a:solidFill>
                <a:latin typeface="Segoe UI"/>
                <a:ea typeface="Segoe UI"/>
              </a:rPr>
              <a:t>https://cran.r-project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312"/>
              </a:spcBef>
              <a:buClr>
                <a:srgbClr val="0e1015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Download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for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your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operating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150"/>
              </a:spcBef>
              <a:buClr>
                <a:srgbClr val="0e1015"/>
              </a:buClr>
              <a:buFont typeface="Segoe U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Follow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installation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Installing</a:t>
            </a:r>
            <a:r>
              <a:rPr b="1" lang="de-DE" sz="15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RStudio</a:t>
            </a:r>
            <a:r>
              <a:rPr b="1" lang="de-DE" sz="15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(Recommended)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ject 8"/>
          <p:cNvSpPr/>
          <p:nvPr/>
        </p:nvSpPr>
        <p:spPr>
          <a:xfrm>
            <a:off x="1336680" y="2979720"/>
            <a:ext cx="3629160" cy="360"/>
          </a:xfrm>
          <a:custGeom>
            <a:avLst/>
            <a:gdLst/>
            <a:ahLst/>
            <a:rect l="l" t="t" r="r" b="b"/>
            <a:pathLst>
              <a:path w="3628390" h="0">
                <a:moveTo>
                  <a:pt x="0" y="0"/>
                </a:moveTo>
                <a:lnTo>
                  <a:pt x="3628003" y="0"/>
                </a:lnTo>
              </a:path>
            </a:pathLst>
          </a:custGeom>
          <a:noFill/>
          <a:ln w="10440">
            <a:solidFill>
              <a:srgbClr val="3963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bject 9"/>
          <p:cNvSpPr/>
          <p:nvPr/>
        </p:nvSpPr>
        <p:spPr>
          <a:xfrm>
            <a:off x="1319040" y="2789280"/>
            <a:ext cx="3664080" cy="360"/>
          </a:xfrm>
          <a:custGeom>
            <a:avLst/>
            <a:gdLst/>
            <a:ahLst/>
            <a:rect l="l" t="t" r="r" b="b"/>
            <a:pathLst>
              <a:path w="3665220" h="0">
                <a:moveTo>
                  <a:pt x="0" y="0"/>
                </a:moveTo>
                <a:lnTo>
                  <a:pt x="3664726" y="0"/>
                </a:lnTo>
              </a:path>
            </a:pathLst>
          </a:custGeom>
          <a:noFill/>
          <a:ln w="19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ject 10"/>
          <p:cNvSpPr/>
          <p:nvPr/>
        </p:nvSpPr>
        <p:spPr>
          <a:xfrm>
            <a:off x="1327320" y="2798640"/>
            <a:ext cx="360" cy="203400"/>
          </a:xfrm>
          <a:custGeom>
            <a:avLst/>
            <a:gdLst/>
            <a:ahLst/>
            <a:rect l="l" t="t" r="r" b="b"/>
            <a:pathLst>
              <a:path w="0" h="203200">
                <a:moveTo>
                  <a:pt x="0" y="0"/>
                </a:moveTo>
                <a:lnTo>
                  <a:pt x="0" y="202691"/>
                </a:lnTo>
              </a:path>
            </a:pathLst>
          </a:custGeom>
          <a:noFill/>
          <a:ln w="19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bject 11"/>
          <p:cNvSpPr/>
          <p:nvPr/>
        </p:nvSpPr>
        <p:spPr>
          <a:xfrm>
            <a:off x="4973760" y="2798640"/>
            <a:ext cx="360" cy="203400"/>
          </a:xfrm>
          <a:custGeom>
            <a:avLst/>
            <a:gdLst/>
            <a:ahLst/>
            <a:rect l="l" t="t" r="r" b="b"/>
            <a:pathLst>
              <a:path w="0" h="203200">
                <a:moveTo>
                  <a:pt x="0" y="0"/>
                </a:moveTo>
                <a:lnTo>
                  <a:pt x="0" y="202691"/>
                </a:lnTo>
              </a:path>
            </a:pathLst>
          </a:custGeom>
          <a:noFill/>
          <a:ln w="19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bject 12"/>
          <p:cNvSpPr/>
          <p:nvPr/>
        </p:nvSpPr>
        <p:spPr>
          <a:xfrm>
            <a:off x="1319040" y="3009960"/>
            <a:ext cx="3664080" cy="360"/>
          </a:xfrm>
          <a:custGeom>
            <a:avLst/>
            <a:gdLst/>
            <a:ahLst/>
            <a:rect l="l" t="t" r="r" b="b"/>
            <a:pathLst>
              <a:path w="3665220" h="0">
                <a:moveTo>
                  <a:pt x="0" y="0"/>
                </a:moveTo>
                <a:lnTo>
                  <a:pt x="3664726" y="0"/>
                </a:lnTo>
              </a:path>
            </a:pathLst>
          </a:custGeom>
          <a:noFill/>
          <a:ln w="19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bject 13"/>
          <p:cNvSpPr/>
          <p:nvPr/>
        </p:nvSpPr>
        <p:spPr>
          <a:xfrm>
            <a:off x="658800" y="2789280"/>
            <a:ext cx="431496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1.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 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Go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to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 </a:t>
            </a:r>
            <a:r>
              <a:rPr b="0" lang="de-DE" sz="1200" spc="-1" strike="noStrike">
                <a:solidFill>
                  <a:srgbClr val="3963fe"/>
                </a:solidFill>
                <a:latin typeface="Segoe UI"/>
                <a:ea typeface="Segoe UI"/>
              </a:rPr>
              <a:t>https</a:t>
            </a:r>
            <a:r>
              <a:rPr b="0" lang="de-DE" sz="1200" spc="-1" strike="noStrike" u="sng">
                <a:solidFill>
                  <a:srgbClr val="3963fe"/>
                </a:solidFill>
                <a:uFillTx/>
                <a:latin typeface="Segoe UI"/>
                <a:ea typeface="Segoe UI"/>
                <a:hlinkClick r:id="rId1"/>
              </a:rPr>
              <a:t>://ww</a:t>
            </a:r>
            <a:r>
              <a:rPr b="0" lang="de-DE" sz="1200" spc="-1" strike="noStrike">
                <a:solidFill>
                  <a:srgbClr val="3963fe"/>
                </a:solidFill>
                <a:latin typeface="Segoe UI"/>
                <a:ea typeface="Segoe UI"/>
              </a:rPr>
              <a:t>w.r</a:t>
            </a:r>
            <a:r>
              <a:rPr b="0" lang="de-DE" sz="1200" spc="-1" strike="noStrike" u="sng">
                <a:solidFill>
                  <a:srgbClr val="3963fe"/>
                </a:solidFill>
                <a:uFillTx/>
                <a:latin typeface="Segoe UI"/>
                <a:ea typeface="Segoe UI"/>
                <a:hlinkClick r:id="rId2"/>
              </a:rPr>
              <a:t>studio.com/products/rstudio/download/</a:t>
            </a:r>
            <a:r>
              <a:rPr b="0" lang="de-DE" sz="1200" spc="-1" strike="noStrike">
                <a:solidFill>
                  <a:srgbClr val="3963fe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bject 14"/>
          <p:cNvSpPr/>
          <p:nvPr/>
        </p:nvSpPr>
        <p:spPr>
          <a:xfrm>
            <a:off x="887400" y="3048120"/>
            <a:ext cx="2793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Download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RStudio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Desktop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(free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version)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Install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after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R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is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insta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ject 15"/>
          <p:cNvSpPr/>
          <p:nvPr/>
        </p:nvSpPr>
        <p:spPr>
          <a:xfrm>
            <a:off x="887400" y="3797280"/>
            <a:ext cx="305748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3.</a:t>
            </a:r>
            <a:r>
              <a:rPr b="1" lang="de-DE" sz="16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Basic</a:t>
            </a:r>
            <a:r>
              <a:rPr b="1" lang="de-DE" sz="16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Syntax</a:t>
            </a:r>
            <a:r>
              <a:rPr b="1" lang="de-DE" sz="16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and</a:t>
            </a:r>
            <a:r>
              <a:rPr b="1" lang="de-DE" sz="16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Basic</a:t>
            </a:r>
            <a:r>
              <a:rPr b="1" lang="de-DE" sz="15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Arithmetic</a:t>
            </a:r>
            <a:r>
              <a:rPr b="1" lang="de-DE" sz="15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Operatio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bject 16"/>
          <p:cNvSpPr/>
          <p:nvPr/>
        </p:nvSpPr>
        <p:spPr>
          <a:xfrm>
            <a:off x="887400" y="4794120"/>
            <a:ext cx="1870200" cy="50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Addi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5</a:t>
            </a:r>
            <a:r>
              <a:rPr b="0" lang="de-DE" sz="1000" spc="-1" strike="noStrike">
                <a:solidFill>
                  <a:srgbClr val="b76b00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+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Subtra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10</a:t>
            </a:r>
            <a:r>
              <a:rPr b="0" lang="de-DE" sz="1000" spc="-1" strike="noStrike">
                <a:solidFill>
                  <a:srgbClr val="b76b00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Multiplic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6</a:t>
            </a:r>
            <a:r>
              <a:rPr b="0" lang="de-DE" sz="1000" spc="-1" strike="noStrike">
                <a:solidFill>
                  <a:srgbClr val="b76b00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*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Divis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15</a:t>
            </a:r>
            <a:r>
              <a:rPr b="0" lang="de-DE" sz="1000" spc="-1" strike="noStrike">
                <a:solidFill>
                  <a:srgbClr val="b76b00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/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Exponent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2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^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Modul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10</a:t>
            </a:r>
            <a:r>
              <a:rPr b="0" lang="de-DE" sz="1000" spc="-1" strike="noStrike">
                <a:solidFill>
                  <a:srgbClr val="b76b00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%%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Variable</a:t>
            </a:r>
            <a:r>
              <a:rPr b="1" lang="de-DE" sz="15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Assignm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x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bject 2"/>
          <p:cNvSpPr/>
          <p:nvPr/>
        </p:nvSpPr>
        <p:spPr>
          <a:xfrm>
            <a:off x="887400" y="961920"/>
            <a:ext cx="2843280" cy="73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y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661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result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x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+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y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print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result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Commen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This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is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a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single-line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com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"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"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This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is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a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ulti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-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line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om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Useful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a525a3"/>
                </a:solidFill>
                <a:latin typeface="Segoe UI Symbol"/>
                <a:ea typeface="Segoe UI Symbol"/>
              </a:rPr>
              <a:t>for</a:t>
            </a:r>
            <a:r>
              <a:rPr b="0" lang="de-DE" sz="1000" spc="-1" strike="noStrike">
                <a:solidFill>
                  <a:srgbClr val="a525a3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longer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explanations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"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"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4.</a:t>
            </a:r>
            <a:r>
              <a:rPr b="1" lang="de-DE" sz="16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Data</a:t>
            </a:r>
            <a:r>
              <a:rPr b="1" lang="de-DE" sz="16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Types</a:t>
            </a:r>
            <a:r>
              <a:rPr b="1" lang="de-DE" sz="16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and</a:t>
            </a:r>
            <a:r>
              <a:rPr b="1" lang="de-DE" sz="16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Struct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Basic</a:t>
            </a:r>
            <a:r>
              <a:rPr b="1" lang="de-DE" sz="15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Data</a:t>
            </a:r>
            <a:r>
              <a:rPr b="1" lang="de-DE" sz="15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Ty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Numeri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661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num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10.5</a:t>
            </a:r>
            <a:r>
              <a:rPr b="0" lang="de-DE" sz="1000" spc="-1" strike="noStrike">
                <a:solidFill>
                  <a:srgbClr val="b76b00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lass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num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Integer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int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15L</a:t>
            </a:r>
            <a:r>
              <a:rPr b="0" lang="de-DE" sz="1000" spc="-1" strike="noStrike">
                <a:solidFill>
                  <a:srgbClr val="b76b00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lass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int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661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text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Hello</a:t>
            </a:r>
            <a:r>
              <a:rPr b="0" lang="de-DE" sz="1000" spc="-1" strike="noStrike">
                <a:solidFill>
                  <a:srgbClr val="50a04f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R"</a:t>
            </a:r>
            <a:r>
              <a:rPr b="0" lang="de-DE" sz="1000" spc="-1" strike="noStrike">
                <a:solidFill>
                  <a:srgbClr val="50a04f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lass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text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Logical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bool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TRUE</a:t>
            </a:r>
            <a:r>
              <a:rPr b="0" lang="de-DE" sz="1000" spc="-1" strike="noStrike">
                <a:solidFill>
                  <a:srgbClr val="b76b00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lass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bool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Facto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661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ategories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factor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A"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B"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A"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C"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lass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ategories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Data</a:t>
            </a:r>
            <a:r>
              <a:rPr b="1" lang="de-DE" sz="15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Structu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bject 2"/>
          <p:cNvSpPr/>
          <p:nvPr/>
        </p:nvSpPr>
        <p:spPr>
          <a:xfrm>
            <a:off x="887400" y="992160"/>
            <a:ext cx="2776680" cy="84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Create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vecto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numeric_vector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1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2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3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4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5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37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haracter_vector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apple"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banana"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cherry"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logical_vector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TRU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FALS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TRU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Vector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opera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v1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1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2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3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v2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4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5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6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sum_vector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v1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+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v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Matr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Create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matri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661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at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atrix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1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: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9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nrow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3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ncol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3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print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at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Matrix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opera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661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at1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atrix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1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: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4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nrow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2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at2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atrix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5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: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8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nrow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2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at_product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at1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%*%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at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Data</a:t>
            </a:r>
            <a:r>
              <a:rPr b="1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Frames</a:t>
            </a:r>
            <a:r>
              <a:rPr b="1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(Most</a:t>
            </a:r>
            <a:r>
              <a:rPr b="1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Commonly</a:t>
            </a:r>
            <a:r>
              <a:rPr b="1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Us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Create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data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fram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ata.fram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37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Name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Alice"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Bob"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Charlie"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Age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25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30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35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Score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85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92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78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View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data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frame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head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summary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str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Li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Create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li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object 2"/>
          <p:cNvSpPr/>
          <p:nvPr/>
        </p:nvSpPr>
        <p:spPr>
          <a:xfrm>
            <a:off x="887400" y="961920"/>
            <a:ext cx="2368440" cy="48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2440" indent="-69840"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y_list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list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name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John"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 indent="-69840">
              <a:lnSpc>
                <a:spcPct val="137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scores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85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92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78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passed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 indent="-6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 indent="-6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 indent="-6984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82440" indent="-6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5.</a:t>
            </a:r>
            <a:r>
              <a:rPr b="1" lang="de-DE" sz="16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Data</a:t>
            </a:r>
            <a:r>
              <a:rPr b="1" lang="de-DE" sz="16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Manipul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2440" indent="-6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2440" indent="-69840">
              <a:lnSpc>
                <a:spcPct val="100000"/>
              </a:lnSpc>
              <a:spcBef>
                <a:spcPts val="10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Reading</a:t>
            </a:r>
            <a:r>
              <a:rPr b="1" lang="de-DE" sz="15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82440" indent="-69840">
              <a:lnSpc>
                <a:spcPct val="100000"/>
              </a:lnSpc>
              <a:spcBef>
                <a:spcPts val="13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82440" indent="-69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Read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CSV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 indent="-6984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ata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read.csv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filename.csv"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 indent="-6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 indent="-6984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82440" indent="-6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Read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Excel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file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(requires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readxl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package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 indent="-69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install.packages("readxl"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 indent="-6984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library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readxl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 indent="-6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ata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read_excel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filename.xlsx"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 indent="-6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 indent="-6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82440" indent="-6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Basic</a:t>
            </a:r>
            <a:r>
              <a:rPr b="1" lang="de-DE" sz="15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Data</a:t>
            </a:r>
            <a:r>
              <a:rPr b="1" lang="de-DE" sz="15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Operatio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82440" indent="-698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82440" indent="-6984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View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bject 3"/>
          <p:cNvSpPr/>
          <p:nvPr/>
        </p:nvSpPr>
        <p:spPr>
          <a:xfrm>
            <a:off x="887400" y="6086520"/>
            <a:ext cx="6253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head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ata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tail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ata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str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ata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ject 4"/>
          <p:cNvSpPr/>
          <p:nvPr/>
        </p:nvSpPr>
        <p:spPr>
          <a:xfrm>
            <a:off x="1657440" y="6081840"/>
            <a:ext cx="8794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First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6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row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060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Last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6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row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0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bject 5"/>
          <p:cNvSpPr/>
          <p:nvPr/>
        </p:nvSpPr>
        <p:spPr>
          <a:xfrm>
            <a:off x="887400" y="6708600"/>
            <a:ext cx="21844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summary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ata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Summary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statistic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Subsetting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bject 6"/>
          <p:cNvSpPr/>
          <p:nvPr/>
        </p:nvSpPr>
        <p:spPr>
          <a:xfrm>
            <a:off x="887400" y="7343640"/>
            <a:ext cx="442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[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1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[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2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[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1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: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3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ject 7"/>
          <p:cNvSpPr/>
          <p:nvPr/>
        </p:nvSpPr>
        <p:spPr>
          <a:xfrm>
            <a:off x="1592280" y="7338960"/>
            <a:ext cx="10191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First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row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Second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colum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First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three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row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bject 8"/>
          <p:cNvSpPr/>
          <p:nvPr/>
        </p:nvSpPr>
        <p:spPr>
          <a:xfrm>
            <a:off x="887400" y="7966080"/>
            <a:ext cx="310032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[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$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Age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gt;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25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]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Rows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where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Age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&gt;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Adding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colum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$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NewColumn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$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Age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*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Using</a:t>
            </a:r>
            <a:r>
              <a:rPr b="1" lang="de-DE" sz="15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dplyr</a:t>
            </a:r>
            <a:r>
              <a:rPr b="1" lang="de-DE" sz="15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for</a:t>
            </a:r>
            <a:r>
              <a:rPr b="1" lang="de-DE" sz="15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Data</a:t>
            </a:r>
            <a:r>
              <a:rPr b="1" lang="de-DE" sz="15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Manipul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bject 2"/>
          <p:cNvSpPr/>
          <p:nvPr/>
        </p:nvSpPr>
        <p:spPr>
          <a:xfrm>
            <a:off x="887400" y="957240"/>
            <a:ext cx="14698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install.packages("dplyr"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library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plyr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ject 3"/>
          <p:cNvSpPr/>
          <p:nvPr/>
        </p:nvSpPr>
        <p:spPr>
          <a:xfrm>
            <a:off x="887400" y="1584360"/>
            <a:ext cx="13669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Basic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dplyr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opera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%&gt;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filter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Age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gt;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25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%&gt;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bject 4"/>
          <p:cNvSpPr/>
          <p:nvPr/>
        </p:nvSpPr>
        <p:spPr>
          <a:xfrm>
            <a:off x="2517840" y="2003400"/>
            <a:ext cx="70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Filter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row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bject 5"/>
          <p:cNvSpPr/>
          <p:nvPr/>
        </p:nvSpPr>
        <p:spPr>
          <a:xfrm>
            <a:off x="887400" y="2214720"/>
            <a:ext cx="332424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2440">
              <a:lnSpc>
                <a:spcPct val="131000"/>
              </a:lnSpc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select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Nam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Scor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%&gt;%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Select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columns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utat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ScorePercent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Scor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%&gt;%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Create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new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column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arrang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esc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Scor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Sort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by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Score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descend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6.</a:t>
            </a:r>
            <a:r>
              <a:rPr b="1" lang="de-DE" sz="16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Basic</a:t>
            </a:r>
            <a:r>
              <a:rPr b="1" lang="de-DE" sz="16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Statistic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1037"/>
              </a:spcBef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Descriptive</a:t>
            </a:r>
            <a:r>
              <a:rPr b="1" lang="de-DE" sz="15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Statistic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1324"/>
              </a:spcBef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Basic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statistic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ts val="1661"/>
              </a:lnSpc>
              <a:spcBef>
                <a:spcPts val="99"/>
              </a:spcBef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ean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$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Ag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edian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$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Ag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sd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$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Ag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Standard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dev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var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$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Ag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Varian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in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$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Ag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37000"/>
              </a:lnSpc>
              <a:spcBef>
                <a:spcPts val="11"/>
              </a:spcBef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ax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$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Ag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quantil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$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Ag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Correl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or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$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Ag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$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Scor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Linear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regress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ts val="1661"/>
              </a:lnSpc>
              <a:spcBef>
                <a:spcPts val="99"/>
              </a:spcBef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odel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lm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Score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~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Ag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ata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summary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odel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Statistical</a:t>
            </a:r>
            <a:r>
              <a:rPr b="1" lang="de-DE" sz="15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Tes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T-t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t.test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$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Scor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u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80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Chi-square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t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612800"/>
                <a:tab algn="l" pos="179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chisq.test(observed_dat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bject 2"/>
          <p:cNvSpPr/>
          <p:nvPr/>
        </p:nvSpPr>
        <p:spPr>
          <a:xfrm>
            <a:off x="887400" y="966960"/>
            <a:ext cx="3336840" cy="82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46240" indent="-233640">
              <a:lnSpc>
                <a:spcPct val="100000"/>
              </a:lnSpc>
              <a:buClr>
                <a:srgbClr val="0e1015"/>
              </a:buClr>
              <a:buFont typeface="Segoe UI"/>
              <a:buAutoNum type="arabicPeriod" startAt="7"/>
              <a:tabLst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Data</a:t>
            </a:r>
            <a:r>
              <a:rPr b="1" lang="de-DE" sz="16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buClr>
                <a:srgbClr val="0e1015"/>
              </a:buClr>
              <a:buFont typeface="Times New Roman"/>
              <a:buAutoNum type="arabicPeriod" startAt="7"/>
              <a:tabLst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spcBef>
                <a:spcPts val="1037"/>
              </a:spcBef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Base</a:t>
            </a:r>
            <a:r>
              <a:rPr b="1" lang="de-DE" sz="15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R</a:t>
            </a:r>
            <a:r>
              <a:rPr b="1" lang="de-DE" sz="15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Graphic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Scatter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plo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plot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$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Ag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$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Scor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ain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Age</a:t>
            </a:r>
            <a:r>
              <a:rPr b="0" lang="de-DE" sz="1000" spc="-1" strike="noStrike">
                <a:solidFill>
                  <a:srgbClr val="50a04f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vs</a:t>
            </a:r>
            <a:r>
              <a:rPr b="0" lang="de-DE" sz="1000" spc="-1" strike="noStrike">
                <a:solidFill>
                  <a:srgbClr val="50a04f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Score"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Histogr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hist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$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Ag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ain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Age</a:t>
            </a:r>
            <a:r>
              <a:rPr b="0" lang="de-DE" sz="1000" spc="-1" strike="noStrike">
                <a:solidFill>
                  <a:srgbClr val="50a04f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Distribution"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Box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plo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boxplot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Score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~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Nam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ata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ggplot2</a:t>
            </a:r>
            <a:r>
              <a:rPr b="1" lang="de-DE" sz="15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(Recommended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install.packages("ggplot2"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library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ggplot2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Scatter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plo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ggplot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aes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x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Ag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y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Scor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37000"/>
              </a:lnSpc>
              <a:spcBef>
                <a:spcPts val="11"/>
              </a:spcBef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geom_point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+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geom_smooth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ethod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lm"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labs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title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Age</a:t>
            </a:r>
            <a:r>
              <a:rPr b="0" lang="de-DE" sz="1000" spc="-1" strike="noStrike">
                <a:solidFill>
                  <a:srgbClr val="50a04f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vs</a:t>
            </a:r>
            <a:r>
              <a:rPr b="0" lang="de-DE" sz="1000" spc="-1" strike="noStrike">
                <a:solidFill>
                  <a:srgbClr val="50a04f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Score"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x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Age"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y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Score"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Bar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plo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ggplot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aes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x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Nam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y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Scor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37000"/>
              </a:lnSpc>
              <a:spcBef>
                <a:spcPts val="11"/>
              </a:spcBef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geom_bar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stat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identity"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+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theme_minimal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Histogr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ggplot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f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aes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x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Age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ts val="1661"/>
              </a:lnSpc>
              <a:spcBef>
                <a:spcPts val="113"/>
              </a:spcBef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geom_histogram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binwidth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5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fill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blue"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alpha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0.7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+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labs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title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Age</a:t>
            </a:r>
            <a:r>
              <a:rPr b="0" lang="de-DE" sz="1000" spc="-1" strike="noStrike">
                <a:solidFill>
                  <a:srgbClr val="50a04f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Distribution"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buClr>
                <a:srgbClr val="0e1015"/>
              </a:buClr>
              <a:buFont typeface="Segoe UI"/>
              <a:buChar char="•"/>
              <a:tabLst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Control</a:t>
            </a:r>
            <a:r>
              <a:rPr b="1" lang="de-DE" sz="16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Struct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6240" indent="-23364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Conditional</a:t>
            </a:r>
            <a:r>
              <a:rPr b="1" lang="de-DE" sz="15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Statemen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bject 2"/>
          <p:cNvSpPr/>
          <p:nvPr/>
        </p:nvSpPr>
        <p:spPr>
          <a:xfrm>
            <a:off x="887400" y="917640"/>
            <a:ext cx="2189160" cy="77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If-else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stat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age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37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525a3"/>
                </a:solidFill>
                <a:latin typeface="Segoe UI Symbol"/>
                <a:ea typeface="Segoe UI Symbol"/>
              </a:rPr>
              <a:t>if</a:t>
            </a:r>
            <a:r>
              <a:rPr b="0" lang="de-DE" sz="1000" spc="-1" strike="noStrike">
                <a:solidFill>
                  <a:srgbClr val="a525a3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age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gt;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18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{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print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Adult"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37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}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a525a3"/>
                </a:solidFill>
                <a:latin typeface="Segoe UI Symbol"/>
                <a:ea typeface="Segoe UI Symbol"/>
              </a:rPr>
              <a:t>else</a:t>
            </a:r>
            <a:r>
              <a:rPr b="0" lang="de-DE" sz="1000" spc="-1" strike="noStrike">
                <a:solidFill>
                  <a:srgbClr val="a525a3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{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print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Minor"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If-else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if-el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score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8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37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525a3"/>
                </a:solidFill>
                <a:latin typeface="Segoe UI Symbol"/>
                <a:ea typeface="Segoe UI Symbol"/>
              </a:rPr>
              <a:t>if</a:t>
            </a:r>
            <a:r>
              <a:rPr b="0" lang="de-DE" sz="1000" spc="-1" strike="noStrike">
                <a:solidFill>
                  <a:srgbClr val="a525a3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score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gt;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90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{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grade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A"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37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}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a525a3"/>
                </a:solidFill>
                <a:latin typeface="Segoe UI Symbol"/>
                <a:ea typeface="Segoe UI Symbol"/>
              </a:rPr>
              <a:t>else</a:t>
            </a:r>
            <a:r>
              <a:rPr b="0" lang="de-DE" sz="1000" spc="-1" strike="noStrike">
                <a:solidFill>
                  <a:srgbClr val="a525a3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a525a3"/>
                </a:solidFill>
                <a:latin typeface="Segoe UI Symbol"/>
                <a:ea typeface="Segoe UI Symbol"/>
              </a:rPr>
              <a:t>if</a:t>
            </a:r>
            <a:r>
              <a:rPr b="0" lang="de-DE" sz="1000" spc="-1" strike="noStrike">
                <a:solidFill>
                  <a:srgbClr val="a525a3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score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gt;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80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{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grade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B"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}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a525a3"/>
                </a:solidFill>
                <a:latin typeface="Segoe UI Symbol"/>
                <a:ea typeface="Segoe UI Symbol"/>
              </a:rPr>
              <a:t>else</a:t>
            </a:r>
            <a:r>
              <a:rPr b="0" lang="de-DE" sz="1000" spc="-1" strike="noStrike">
                <a:solidFill>
                  <a:srgbClr val="a525a3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grade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50a04f"/>
                </a:solidFill>
                <a:latin typeface="Segoe UI Symbol"/>
                <a:ea typeface="Segoe UI Symbol"/>
              </a:rPr>
              <a:t>"C"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Loo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For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loo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525a3"/>
                </a:solidFill>
                <a:latin typeface="Segoe UI Symbol"/>
                <a:ea typeface="Segoe UI Symbol"/>
              </a:rPr>
              <a:t>for</a:t>
            </a:r>
            <a:r>
              <a:rPr b="0" lang="de-DE" sz="1000" spc="-1" strike="noStrike">
                <a:solidFill>
                  <a:srgbClr val="a525a3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i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a525a3"/>
                </a:solidFill>
                <a:latin typeface="Segoe UI Symbol"/>
                <a:ea typeface="Segoe UI Symbol"/>
              </a:rPr>
              <a:t>in</a:t>
            </a:r>
            <a:r>
              <a:rPr b="0" lang="de-DE" sz="1000" spc="-1" strike="noStrike">
                <a:solidFill>
                  <a:srgbClr val="a525a3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1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: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5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{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print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i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While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loo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ount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37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525a3"/>
                </a:solidFill>
                <a:latin typeface="Segoe UI Symbol"/>
                <a:ea typeface="Segoe UI Symbol"/>
              </a:rPr>
              <a:t>while</a:t>
            </a:r>
            <a:r>
              <a:rPr b="0" lang="de-DE" sz="1000" spc="-1" strike="noStrike">
                <a:solidFill>
                  <a:srgbClr val="a525a3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ount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5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{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print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ount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ount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ount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+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9.</a:t>
            </a:r>
            <a:r>
              <a:rPr b="1" lang="de-DE" sz="16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Creating</a:t>
            </a:r>
            <a:r>
              <a:rPr b="1" lang="de-DE" sz="15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Functio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Simple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alculate_mean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a525a3"/>
                </a:solidFill>
                <a:latin typeface="Segoe UI Symbol"/>
                <a:ea typeface="Segoe UI Symbol"/>
              </a:rPr>
              <a:t>function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numbers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bject 2"/>
          <p:cNvSpPr/>
          <p:nvPr/>
        </p:nvSpPr>
        <p:spPr>
          <a:xfrm>
            <a:off x="887400" y="961920"/>
            <a:ext cx="2637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return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ean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numbers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Function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with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multiple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paramete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alculate_stats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a525a3"/>
                </a:solidFill>
                <a:latin typeface="Segoe UI Symbol"/>
                <a:ea typeface="Segoe UI Symbol"/>
              </a:rPr>
              <a:t>function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x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{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list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ean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ean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x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edian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median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x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sd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=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sd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x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#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Using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9fa0a6"/>
                </a:solidFill>
                <a:latin typeface="Segoe UI Symbol"/>
                <a:ea typeface="Segoe UI Symbol"/>
              </a:rPr>
              <a:t>functions</a:t>
            </a:r>
            <a:r>
              <a:rPr b="0" lang="de-DE" sz="1000" spc="-1" strike="noStrike">
                <a:solidFill>
                  <a:srgbClr val="9fa0a6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ata_vector</a:t>
            </a:r>
            <a:r>
              <a:rPr b="0" lang="de-DE" sz="10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3f78f2"/>
                </a:solidFill>
                <a:latin typeface="Segoe UI Symbol"/>
                <a:ea typeface="Segoe UI Symbol"/>
              </a:rPr>
              <a:t>&lt;-</a:t>
            </a:r>
            <a:r>
              <a:rPr b="0" lang="de-DE" sz="1000" spc="-1" strike="noStrike">
                <a:solidFill>
                  <a:srgbClr val="3f78f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1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2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3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4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,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b76b00"/>
                </a:solidFill>
                <a:latin typeface="Segoe UI Symbol"/>
                <a:ea typeface="Segoe UI Symbol"/>
              </a:rPr>
              <a:t>5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alculate_mean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ata_vector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r>
              <a:rPr b="0" lang="de-DE" sz="1000" spc="-1" strike="noStrike">
                <a:solidFill>
                  <a:srgbClr val="383942"/>
                </a:solidFill>
                <a:latin typeface="Times New Roman"/>
                <a:ea typeface="Times New Roman"/>
              </a:rPr>
              <a:t> 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calculate_stats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(</a:t>
            </a:r>
            <a:r>
              <a:rPr b="0" lang="de-DE" sz="1000" spc="-1" strike="noStrike">
                <a:solidFill>
                  <a:srgbClr val="0e1015"/>
                </a:solidFill>
                <a:latin typeface="Segoe UI Symbol"/>
                <a:ea typeface="Segoe UI Symbol"/>
              </a:rPr>
              <a:t>data_vector</a:t>
            </a:r>
            <a:r>
              <a:rPr b="0" lang="de-DE" sz="1000" spc="-1" strike="noStrike">
                <a:solidFill>
                  <a:srgbClr val="383942"/>
                </a:solidFill>
                <a:latin typeface="Segoe UI Symbol"/>
                <a:ea typeface="Segoe UI Symbo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10.</a:t>
            </a:r>
            <a:r>
              <a:rPr b="1" lang="de-DE" sz="16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Resources</a:t>
            </a:r>
            <a:r>
              <a:rPr b="1" lang="de-DE" sz="16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for</a:t>
            </a:r>
            <a:r>
              <a:rPr b="1" lang="de-DE" sz="16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e1015"/>
                </a:solidFill>
                <a:latin typeface="Segoe UI"/>
                <a:ea typeface="Segoe UI"/>
              </a:rPr>
              <a:t>Learn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bject 3"/>
          <p:cNvSpPr/>
          <p:nvPr/>
        </p:nvSpPr>
        <p:spPr>
          <a:xfrm>
            <a:off x="2249640" y="5832360"/>
            <a:ext cx="2400120" cy="360"/>
          </a:xfrm>
          <a:custGeom>
            <a:avLst/>
            <a:gdLst/>
            <a:ahLst/>
            <a:rect l="l" t="t" r="r" b="b"/>
            <a:pathLst>
              <a:path w="2399029" h="0">
                <a:moveTo>
                  <a:pt x="0" y="0"/>
                </a:moveTo>
                <a:lnTo>
                  <a:pt x="2399038" y="0"/>
                </a:lnTo>
              </a:path>
            </a:pathLst>
          </a:custGeom>
          <a:noFill/>
          <a:ln w="10440">
            <a:solidFill>
              <a:srgbClr val="3963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bject 4"/>
          <p:cNvSpPr/>
          <p:nvPr/>
        </p:nvSpPr>
        <p:spPr>
          <a:xfrm>
            <a:off x="2232000" y="5641920"/>
            <a:ext cx="2435400" cy="360"/>
          </a:xfrm>
          <a:custGeom>
            <a:avLst/>
            <a:gdLst/>
            <a:ahLst/>
            <a:rect l="l" t="t" r="r" b="b"/>
            <a:pathLst>
              <a:path w="2435860" h="0">
                <a:moveTo>
                  <a:pt x="0" y="0"/>
                </a:moveTo>
                <a:lnTo>
                  <a:pt x="2435604" y="0"/>
                </a:lnTo>
              </a:path>
            </a:pathLst>
          </a:custGeom>
          <a:noFill/>
          <a:ln w="19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ject 5"/>
          <p:cNvSpPr/>
          <p:nvPr/>
        </p:nvSpPr>
        <p:spPr>
          <a:xfrm>
            <a:off x="2241720" y="5651640"/>
            <a:ext cx="360" cy="203040"/>
          </a:xfrm>
          <a:custGeom>
            <a:avLst/>
            <a:gdLst/>
            <a:ahLst/>
            <a:rect l="l" t="t" r="r" b="b"/>
            <a:pathLst>
              <a:path w="0" h="203200">
                <a:moveTo>
                  <a:pt x="0" y="0"/>
                </a:moveTo>
                <a:lnTo>
                  <a:pt x="0" y="202691"/>
                </a:lnTo>
              </a:path>
            </a:pathLst>
          </a:custGeom>
          <a:noFill/>
          <a:ln w="19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bject 6"/>
          <p:cNvSpPr/>
          <p:nvPr/>
        </p:nvSpPr>
        <p:spPr>
          <a:xfrm>
            <a:off x="4657680" y="5651640"/>
            <a:ext cx="360" cy="203040"/>
          </a:xfrm>
          <a:custGeom>
            <a:avLst/>
            <a:gdLst/>
            <a:ahLst/>
            <a:rect l="l" t="t" r="r" b="b"/>
            <a:pathLst>
              <a:path w="0" h="203200">
                <a:moveTo>
                  <a:pt x="0" y="0"/>
                </a:moveTo>
                <a:lnTo>
                  <a:pt x="0" y="202691"/>
                </a:lnTo>
              </a:path>
            </a:pathLst>
          </a:custGeom>
          <a:noFill/>
          <a:ln w="19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bject 7"/>
          <p:cNvSpPr/>
          <p:nvPr/>
        </p:nvSpPr>
        <p:spPr>
          <a:xfrm>
            <a:off x="2232000" y="5864400"/>
            <a:ext cx="2435400" cy="360"/>
          </a:xfrm>
          <a:custGeom>
            <a:avLst/>
            <a:gdLst/>
            <a:ahLst/>
            <a:rect l="l" t="t" r="r" b="b"/>
            <a:pathLst>
              <a:path w="2435860" h="0">
                <a:moveTo>
                  <a:pt x="0" y="0"/>
                </a:moveTo>
                <a:lnTo>
                  <a:pt x="2435604" y="0"/>
                </a:lnTo>
              </a:path>
            </a:pathLst>
          </a:custGeom>
          <a:noFill/>
          <a:ln w="19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ject 8"/>
          <p:cNvSpPr/>
          <p:nvPr/>
        </p:nvSpPr>
        <p:spPr>
          <a:xfrm>
            <a:off x="2314440" y="6073920"/>
            <a:ext cx="2051280" cy="360"/>
          </a:xfrm>
          <a:custGeom>
            <a:avLst/>
            <a:gdLst/>
            <a:ahLst/>
            <a:rect l="l" t="t" r="r" b="b"/>
            <a:pathLst>
              <a:path w="2051685" h="0">
                <a:moveTo>
                  <a:pt x="0" y="0"/>
                </a:moveTo>
                <a:lnTo>
                  <a:pt x="2051566" y="0"/>
                </a:lnTo>
              </a:path>
            </a:pathLst>
          </a:custGeom>
          <a:noFill/>
          <a:ln w="10440">
            <a:solidFill>
              <a:srgbClr val="3963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bject 9"/>
          <p:cNvSpPr/>
          <p:nvPr/>
        </p:nvSpPr>
        <p:spPr>
          <a:xfrm>
            <a:off x="2295360" y="5883120"/>
            <a:ext cx="2089440" cy="360"/>
          </a:xfrm>
          <a:custGeom>
            <a:avLst/>
            <a:gdLst/>
            <a:ahLst/>
            <a:rect l="l" t="t" r="r" b="b"/>
            <a:pathLst>
              <a:path w="2088514" h="0">
                <a:moveTo>
                  <a:pt x="0" y="0"/>
                </a:moveTo>
                <a:lnTo>
                  <a:pt x="2088132" y="0"/>
                </a:lnTo>
              </a:path>
            </a:pathLst>
          </a:custGeom>
          <a:noFill/>
          <a:ln w="19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bject 10"/>
          <p:cNvSpPr/>
          <p:nvPr/>
        </p:nvSpPr>
        <p:spPr>
          <a:xfrm>
            <a:off x="2305080" y="5892840"/>
            <a:ext cx="360" cy="203040"/>
          </a:xfrm>
          <a:custGeom>
            <a:avLst/>
            <a:gdLst/>
            <a:ahLst/>
            <a:rect l="l" t="t" r="r" b="b"/>
            <a:pathLst>
              <a:path w="0" h="203200">
                <a:moveTo>
                  <a:pt x="0" y="0"/>
                </a:moveTo>
                <a:lnTo>
                  <a:pt x="0" y="202691"/>
                </a:lnTo>
              </a:path>
            </a:pathLst>
          </a:custGeom>
          <a:noFill/>
          <a:ln w="19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bject 11"/>
          <p:cNvSpPr/>
          <p:nvPr/>
        </p:nvSpPr>
        <p:spPr>
          <a:xfrm>
            <a:off x="4375080" y="5892840"/>
            <a:ext cx="360" cy="203040"/>
          </a:xfrm>
          <a:custGeom>
            <a:avLst/>
            <a:gdLst/>
            <a:ahLst/>
            <a:rect l="l" t="t" r="r" b="b"/>
            <a:pathLst>
              <a:path w="0" h="203200">
                <a:moveTo>
                  <a:pt x="0" y="0"/>
                </a:moveTo>
                <a:lnTo>
                  <a:pt x="0" y="202691"/>
                </a:lnTo>
              </a:path>
            </a:pathLst>
          </a:custGeom>
          <a:noFill/>
          <a:ln w="19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ject 12"/>
          <p:cNvSpPr/>
          <p:nvPr/>
        </p:nvSpPr>
        <p:spPr>
          <a:xfrm>
            <a:off x="2295360" y="6103800"/>
            <a:ext cx="2089440" cy="360"/>
          </a:xfrm>
          <a:custGeom>
            <a:avLst/>
            <a:gdLst/>
            <a:ahLst/>
            <a:rect l="l" t="t" r="r" b="b"/>
            <a:pathLst>
              <a:path w="2088514" h="0">
                <a:moveTo>
                  <a:pt x="0" y="0"/>
                </a:moveTo>
                <a:lnTo>
                  <a:pt x="2088132" y="0"/>
                </a:lnTo>
              </a:path>
            </a:pathLst>
          </a:custGeom>
          <a:noFill/>
          <a:ln w="19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bject 13"/>
          <p:cNvSpPr/>
          <p:nvPr/>
        </p:nvSpPr>
        <p:spPr>
          <a:xfrm>
            <a:off x="2077920" y="6315120"/>
            <a:ext cx="3097440" cy="360"/>
          </a:xfrm>
          <a:custGeom>
            <a:avLst/>
            <a:gdLst/>
            <a:ahLst/>
            <a:rect l="l" t="t" r="r" b="b"/>
            <a:pathLst>
              <a:path w="3097529" h="0">
                <a:moveTo>
                  <a:pt x="0" y="0"/>
                </a:moveTo>
                <a:lnTo>
                  <a:pt x="3097408" y="0"/>
                </a:lnTo>
              </a:path>
            </a:pathLst>
          </a:custGeom>
          <a:noFill/>
          <a:ln w="10440">
            <a:solidFill>
              <a:srgbClr val="3963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bject 14"/>
          <p:cNvSpPr/>
          <p:nvPr/>
        </p:nvSpPr>
        <p:spPr>
          <a:xfrm>
            <a:off x="2058840" y="6124680"/>
            <a:ext cx="3135600" cy="360"/>
          </a:xfrm>
          <a:custGeom>
            <a:avLst/>
            <a:gdLst/>
            <a:ahLst/>
            <a:rect l="l" t="t" r="r" b="b"/>
            <a:pathLst>
              <a:path w="3134360" h="0">
                <a:moveTo>
                  <a:pt x="0" y="0"/>
                </a:moveTo>
                <a:lnTo>
                  <a:pt x="3133993" y="0"/>
                </a:lnTo>
              </a:path>
            </a:pathLst>
          </a:custGeom>
          <a:noFill/>
          <a:ln w="19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ject 15"/>
          <p:cNvSpPr/>
          <p:nvPr/>
        </p:nvSpPr>
        <p:spPr>
          <a:xfrm>
            <a:off x="2068560" y="6134040"/>
            <a:ext cx="360" cy="203400"/>
          </a:xfrm>
          <a:custGeom>
            <a:avLst/>
            <a:gdLst/>
            <a:ahLst/>
            <a:rect l="l" t="t" r="r" b="b"/>
            <a:pathLst>
              <a:path w="0" h="203200">
                <a:moveTo>
                  <a:pt x="0" y="0"/>
                </a:moveTo>
                <a:lnTo>
                  <a:pt x="0" y="202691"/>
                </a:lnTo>
              </a:path>
            </a:pathLst>
          </a:custGeom>
          <a:noFill/>
          <a:ln w="19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bject 16"/>
          <p:cNvSpPr/>
          <p:nvPr/>
        </p:nvSpPr>
        <p:spPr>
          <a:xfrm>
            <a:off x="5184720" y="6134040"/>
            <a:ext cx="360" cy="203400"/>
          </a:xfrm>
          <a:custGeom>
            <a:avLst/>
            <a:gdLst/>
            <a:ahLst/>
            <a:rect l="l" t="t" r="r" b="b"/>
            <a:pathLst>
              <a:path w="0" h="203200">
                <a:moveTo>
                  <a:pt x="0" y="0"/>
                </a:moveTo>
                <a:lnTo>
                  <a:pt x="0" y="202691"/>
                </a:lnTo>
              </a:path>
            </a:pathLst>
          </a:custGeom>
          <a:noFill/>
          <a:ln w="19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bject 17"/>
          <p:cNvSpPr/>
          <p:nvPr/>
        </p:nvSpPr>
        <p:spPr>
          <a:xfrm>
            <a:off x="2058840" y="6345360"/>
            <a:ext cx="3135600" cy="360"/>
          </a:xfrm>
          <a:custGeom>
            <a:avLst/>
            <a:gdLst/>
            <a:ahLst/>
            <a:rect l="l" t="t" r="r" b="b"/>
            <a:pathLst>
              <a:path w="3134360" h="0">
                <a:moveTo>
                  <a:pt x="0" y="0"/>
                </a:moveTo>
                <a:lnTo>
                  <a:pt x="3133993" y="0"/>
                </a:lnTo>
              </a:path>
            </a:pathLst>
          </a:custGeom>
          <a:noFill/>
          <a:ln w="19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ject 18"/>
          <p:cNvSpPr/>
          <p:nvPr/>
        </p:nvSpPr>
        <p:spPr>
          <a:xfrm>
            <a:off x="658800" y="5238720"/>
            <a:ext cx="40006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Online</a:t>
            </a:r>
            <a:r>
              <a:rPr b="1" lang="de-DE" sz="15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Resourc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buClr>
                <a:srgbClr val="0e1015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R</a:t>
            </a:r>
            <a:r>
              <a:rPr b="1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Documentation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: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 </a:t>
            </a:r>
            <a:r>
              <a:rPr b="0" lang="de-DE" sz="1200" spc="-1" strike="noStrike">
                <a:solidFill>
                  <a:srgbClr val="3963fe"/>
                </a:solidFill>
                <a:latin typeface="Segoe UI"/>
                <a:ea typeface="Segoe UI"/>
              </a:rPr>
              <a:t>https://www.r-project.org/help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451"/>
              </a:spcBef>
              <a:buClr>
                <a:srgbClr val="0e1015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RStudio</a:t>
            </a:r>
            <a:r>
              <a:rPr b="1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Education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: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 </a:t>
            </a:r>
            <a:r>
              <a:rPr b="0" lang="de-DE" sz="1200" spc="-1" strike="noStrike">
                <a:solidFill>
                  <a:srgbClr val="3963fe"/>
                </a:solidFill>
                <a:latin typeface="Segoe UI"/>
                <a:ea typeface="Segoe UI"/>
              </a:rPr>
              <a:t>https://education.rstudio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ymbol"/>
                <a:ea typeface="Symbol"/>
              </a:rPr>
              <a:t>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e1015"/>
                </a:solidFill>
                <a:latin typeface="Symbol"/>
                <a:ea typeface="Symbol"/>
              </a:rPr>
              <a:t>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bject 19"/>
          <p:cNvSpPr/>
          <p:nvPr/>
        </p:nvSpPr>
        <p:spPr>
          <a:xfrm>
            <a:off x="887400" y="6159600"/>
            <a:ext cx="42991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Stack</a:t>
            </a:r>
            <a:r>
              <a:rPr b="1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Overflow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: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 </a:t>
            </a:r>
            <a:r>
              <a:rPr b="0" lang="de-DE" sz="1200" spc="-1" strike="noStrike">
                <a:solidFill>
                  <a:srgbClr val="3963fe"/>
                </a:solidFill>
                <a:latin typeface="Segoe UI"/>
                <a:ea typeface="Segoe UI"/>
              </a:rPr>
              <a:t>https://stackoverflow.com/questions/tagged/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R-bloggers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: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 </a:t>
            </a:r>
            <a:r>
              <a:rPr b="0" lang="de-DE" sz="1200" spc="-1" strike="noStrike">
                <a:solidFill>
                  <a:srgbClr val="3963fe"/>
                </a:solidFill>
                <a:latin typeface="Segoe UI"/>
                <a:ea typeface="Segoe UI"/>
              </a:rPr>
              <a:t>https://www.r-bloggers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bject 20"/>
          <p:cNvSpPr/>
          <p:nvPr/>
        </p:nvSpPr>
        <p:spPr>
          <a:xfrm>
            <a:off x="1781280" y="6556320"/>
            <a:ext cx="1952640" cy="360"/>
          </a:xfrm>
          <a:custGeom>
            <a:avLst/>
            <a:gdLst/>
            <a:ahLst/>
            <a:rect l="l" t="t" r="r" b="b"/>
            <a:pathLst>
              <a:path w="1951354" h="0">
                <a:moveTo>
                  <a:pt x="0" y="0"/>
                </a:moveTo>
                <a:lnTo>
                  <a:pt x="1951363" y="0"/>
                </a:lnTo>
              </a:path>
            </a:pathLst>
          </a:custGeom>
          <a:noFill/>
          <a:ln w="10440">
            <a:solidFill>
              <a:srgbClr val="3963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ject 21"/>
          <p:cNvSpPr/>
          <p:nvPr/>
        </p:nvSpPr>
        <p:spPr>
          <a:xfrm>
            <a:off x="1763640" y="6365880"/>
            <a:ext cx="1987560" cy="360"/>
          </a:xfrm>
          <a:custGeom>
            <a:avLst/>
            <a:gdLst/>
            <a:ahLst/>
            <a:rect l="l" t="t" r="r" b="b"/>
            <a:pathLst>
              <a:path w="1988185" h="0">
                <a:moveTo>
                  <a:pt x="0" y="0"/>
                </a:moveTo>
                <a:lnTo>
                  <a:pt x="1987929" y="0"/>
                </a:lnTo>
              </a:path>
            </a:pathLst>
          </a:custGeom>
          <a:noFill/>
          <a:ln w="19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bject 22"/>
          <p:cNvSpPr/>
          <p:nvPr/>
        </p:nvSpPr>
        <p:spPr>
          <a:xfrm>
            <a:off x="1773360" y="6373800"/>
            <a:ext cx="360" cy="203040"/>
          </a:xfrm>
          <a:custGeom>
            <a:avLst/>
            <a:gdLst/>
            <a:ahLst/>
            <a:rect l="l" t="t" r="r" b="b"/>
            <a:pathLst>
              <a:path w="0" h="203200">
                <a:moveTo>
                  <a:pt x="0" y="0"/>
                </a:moveTo>
                <a:lnTo>
                  <a:pt x="0" y="202691"/>
                </a:lnTo>
              </a:path>
            </a:pathLst>
          </a:custGeom>
          <a:noFill/>
          <a:ln w="19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bject 23"/>
          <p:cNvSpPr/>
          <p:nvPr/>
        </p:nvSpPr>
        <p:spPr>
          <a:xfrm>
            <a:off x="3741840" y="6373800"/>
            <a:ext cx="360" cy="203040"/>
          </a:xfrm>
          <a:custGeom>
            <a:avLst/>
            <a:gdLst/>
            <a:ahLst/>
            <a:rect l="l" t="t" r="r" b="b"/>
            <a:pathLst>
              <a:path w="0" h="203200">
                <a:moveTo>
                  <a:pt x="0" y="0"/>
                </a:moveTo>
                <a:lnTo>
                  <a:pt x="0" y="202691"/>
                </a:lnTo>
              </a:path>
            </a:pathLst>
          </a:custGeom>
          <a:noFill/>
          <a:ln w="19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bject 24"/>
          <p:cNvSpPr/>
          <p:nvPr/>
        </p:nvSpPr>
        <p:spPr>
          <a:xfrm>
            <a:off x="1763640" y="6586560"/>
            <a:ext cx="1987560" cy="360"/>
          </a:xfrm>
          <a:custGeom>
            <a:avLst/>
            <a:gdLst/>
            <a:ahLst/>
            <a:rect l="l" t="t" r="r" b="b"/>
            <a:pathLst>
              <a:path w="1988185" h="0">
                <a:moveTo>
                  <a:pt x="0" y="0"/>
                </a:moveTo>
                <a:lnTo>
                  <a:pt x="1987929" y="0"/>
                </a:lnTo>
              </a:path>
            </a:pathLst>
          </a:custGeom>
          <a:noFill/>
          <a:ln w="19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bject 25"/>
          <p:cNvSpPr/>
          <p:nvPr/>
        </p:nvSpPr>
        <p:spPr>
          <a:xfrm>
            <a:off x="658800" y="6972480"/>
            <a:ext cx="3733920" cy="16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Recommended</a:t>
            </a:r>
            <a:r>
              <a:rPr b="1" lang="de-DE" sz="15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Packages</a:t>
            </a:r>
            <a:r>
              <a:rPr b="1" lang="de-DE" sz="15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for</a:t>
            </a:r>
            <a:r>
              <a:rPr b="1" lang="de-DE" sz="15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1" lang="de-DE" sz="1500" spc="-1" strike="noStrike">
                <a:solidFill>
                  <a:srgbClr val="0e1015"/>
                </a:solidFill>
                <a:latin typeface="Segoe UI"/>
                <a:ea typeface="Segoe UI"/>
              </a:rPr>
              <a:t>Beginn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buClr>
                <a:srgbClr val="0e1015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dplyr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: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Data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150"/>
              </a:spcBef>
              <a:buClr>
                <a:srgbClr val="0e1015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ggplot2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: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Data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visu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162"/>
              </a:spcBef>
              <a:buClr>
                <a:srgbClr val="0e1015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readr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: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Data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150"/>
              </a:spcBef>
              <a:buClr>
                <a:srgbClr val="0e1015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tidyr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: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Data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tidy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1200">
              <a:lnSpc>
                <a:spcPct val="100000"/>
              </a:lnSpc>
              <a:spcBef>
                <a:spcPts val="150"/>
              </a:spcBef>
              <a:buClr>
                <a:srgbClr val="0e1015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stringr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: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String</a:t>
            </a:r>
            <a:r>
              <a:rPr b="0" lang="de-DE" sz="1200" spc="-1" strike="noStrike">
                <a:solidFill>
                  <a:srgbClr val="0e1015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e1015"/>
                </a:solidFill>
                <a:latin typeface="Segoe UI"/>
                <a:ea typeface="Segoe UI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9-25T15:53:10Z</dcterms:created>
  <dc:creator>Online2PDF.com</dc:creator>
  <dc:description/>
  <dc:language>en-US</dc:language>
  <cp:lastModifiedBy>Online2PDF.com</cp:lastModifiedBy>
  <dcterms:modified xsi:type="dcterms:W3CDTF">2025-09-25T13:53:1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5-09-25T00:00:00Z</vt:filetime>
  </property>
  <property fmtid="{D5CDD505-2E9C-101B-9397-08002B2CF9AE}" pid="3" name="LastSaved">
    <vt:filetime>2025-09-25T00:00:00Z</vt:filetime>
  </property>
</Properties>
</file>